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A3E-E402-482D-814B-34F4F1D4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7F8-A2CF-4BBA-8FC4-690BDCA2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577-46EA-4C40-8C49-5A7AC109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2F0-9E0C-4060-82B7-F66FCA43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1E1-9321-4AD4-A714-C6200D62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618-6B55-4159-8B83-1CC09BC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372-B4F9-46E4-B43F-E239809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4B0-9CF4-4A11-9577-5D82C1B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E22-6EAB-4D74-80F8-060240E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665-C802-4CD2-9DCF-00CAED3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C66-8BF3-4B87-B1DB-2714F1C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727-A649-4EE4-B03B-5E7B9BD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05D-01F3-432F-B75A-404BEBAA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277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572000" cy="51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96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27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4290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35:49Z</dcterms:created>
  <dc:creator>grahams</dc:creator>
  <dc:description/>
  <dc:language>en-US</dc:language>
  <cp:lastModifiedBy>grahams</cp:lastModifiedBy>
  <dcterms:modified xsi:type="dcterms:W3CDTF">2012-03-22T12:53:07Z</dcterms:modified>
  <cp:revision>3</cp:revision>
  <dc:subject/>
  <dc:title>Slide 1</dc:title>
</cp:coreProperties>
</file>